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CD7-B93E-4986-B964-3A1DB2F7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AF3-2D42-48BA-895B-344A67FA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05C-5EAF-4613-86BA-12AB6FE7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0F5-A32E-4706-90AF-04A3C2D4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B99AA-B5BF-420F-86F7-69F8FD9E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29D20-6C08-46C3-ACC2-4C8D033E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1B969-E66A-4659-91CC-5FBA1F6E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2C282-17C4-4DA8-89C2-698DA0EE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106EF-EBBE-4675-81B0-C715195A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F8485-486E-47DD-804E-AE21C908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B0189-4105-4437-8444-F9B5640E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B88-5CEB-43B9-874A-646BE222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7B97F-C3B8-4A84-BC9F-DB4513B9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8A1AF-7708-43CC-9513-512A52E0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4BD25-A2E0-497F-80BC-F665D3D0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A5169-FF14-48AE-B0E2-AE723486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F1EC5-83A6-4F17-BEDD-A049D769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15AA-950C-4257-A58C-D24E01A2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C856-248D-4512-AE2A-8BDA4366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9D6C7-5B68-456A-BBA7-8578921B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29BF0-BCB2-4305-B674-831A3BD7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BE50C-B4EB-4E79-982C-23840ABA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0E3-7AB9-4AB3-86AA-31FE8A37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D5057-12BB-4B94-921D-2827318A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BF9A-DB8F-4A59-AA71-AC251B29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579C1-F82A-479A-ABDC-013A3EEB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A8DE-440A-4697-8048-D93E97E6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EDFDD-DB6B-421D-A533-8DA7ADDD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9C560-614B-4FEE-A107-BD1D1D40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6B57-7CF7-4509-B2DF-964AC4FA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E5D0B-EEBD-4A22-ABEE-4BE23AD8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D2761-7B0C-48FB-BC7C-179B6483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30E50B-5A57-4BC3-B971-07E02585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7A0-0C05-4C41-A291-7DDBD18B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8FE8E-5367-41B1-AFFB-1F16CDAC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2523B4-2935-4C49-81BB-556A006C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6AD99E-A5B7-4DF2-9C14-19DF108D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F9A479-8685-45EE-B609-A44D94F3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D8A892-BB80-481F-995D-3652AAF5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A0A4A-5A57-430D-943A-42C17CFE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3BA872-6AD9-4C1C-AB65-2E8AC39A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1F300-1699-4EE1-895A-DFEF364C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88030-474C-403C-A94F-11B280A9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9FF6C-4599-4DC6-94D0-36668038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A7A-E8BF-4851-82C0-223949EE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02244-41E4-4671-B302-F1ED7CBC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E4C4C-4E40-4500-8E7E-05E21A72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EACF1-3E15-4490-B9A0-4C9B081C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AC7BC-E42B-438C-8CB2-A794F4FE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E4602-29DD-4B4D-B702-4BC892E9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22652-677A-4A4C-9708-F4F6096A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9806D-9EE0-4709-A545-A127924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212FA-101F-4AD4-BF95-8886E7CD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4B9CA-193F-4D02-9EDE-2F527145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08C8A-1367-466C-B028-8BA28B27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C9E-03A5-4B74-A9BE-00B91418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DFC6F-E8DC-4C74-84CC-C60A45C0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E4B0AB-33BE-45B6-B256-A3C0378A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B790A-BC32-4C80-A52E-401E3C7F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F828E-E1FD-4345-B502-30F54577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62673-8349-4418-9A73-7EFC0EB8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A809E-E39A-4971-BD7B-E799482A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8036BC-E0A3-424E-B52F-03D59E78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4CAFE-5C87-494B-991E-5C78442D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F93858-1AA9-4C25-AEB9-4F0C38E3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2CB09-313B-4EBA-A153-3F784341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46D-A257-49E4-8301-AE2DECBA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FC83D-2D9A-413F-A8BC-AF3CA4A2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BD540-1802-4DE6-AE3C-836605EC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DA77C9-8853-4189-A84A-E28B6EBA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679-CE59-465D-8790-0B000E82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4D4-93A6-4FD3-BBB1-966389CB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8A64-C462-4E6C-880F-DE192F3B81A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255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B9D8-19E0-4C90-B680-E5052FF6AF3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FDDD-5FDF-478E-A365-DE4E7523163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78A8-05A4-49AD-8D68-369C8249732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E865-CBBF-4DEA-8CED-61DB1BB4333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2B9B-A767-4A11-AB05-ABC6AF2A396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&#1083;&#1102;&#1073;&#1086;&#1074;&#1100;%20&#1040;&#1089;&#1080;.doc" TargetMode="External"/><Relationship Id="rId3" Type="http://schemas.openxmlformats.org/officeDocument/2006/relationships/hyperlink" Target="file:///../&#1083;&#1102;&#1073;&#1086;&#1074;&#1100;%20&#1040;&#1089;&#1080;.doc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&#1083;&#1102;&#1073;&#1086;&#1074;&#1100;%20&#1085;.doc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00720" y="4000320"/>
            <a:ext cx="433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Выполнила ученица 8 «г» класса Малыгина Аня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566640" y="920880"/>
            <a:ext cx="8315280" cy="19936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i.jpg"/>
          <p:cNvPicPr/>
          <p:nvPr/>
        </p:nvPicPr>
        <p:blipFill>
          <a:blip r:embed="rId3"/>
          <a:stretch/>
        </p:blipFill>
        <p:spPr>
          <a:xfrm>
            <a:off x="1214280" y="3071880"/>
            <a:ext cx="3000600" cy="335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a1d"/>
                </a:solidFill>
                <a:latin typeface="Century Gothic"/>
              </a:rPr>
              <a:t>Герой упустил свой шанс. Об этом ему скажет Ася в прощальной записке. Достаточно хорошо узнав Н, Гагин и его сестра решили уехать, не дождавшись ответа. Они понимали, что господин Н еще не созрел для такого важного решения, и по прошествии времени он будет жалеть о нем. Так и получилось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5" name="Заголовок 2" descr=""/>
          <p:cNvPicPr/>
          <p:nvPr/>
        </p:nvPicPr>
        <p:blipFill>
          <a:blip r:embed="rId2"/>
          <a:stretch/>
        </p:blipFill>
        <p:spPr>
          <a:xfrm>
            <a:off x="255600" y="19080"/>
            <a:ext cx="843768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a1d"/>
                </a:solidFill>
                <a:latin typeface="Century Gothic"/>
              </a:rPr>
              <a:t>http://files.school-collection.edu.ru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a1d"/>
                </a:solidFill>
                <a:uFillTx/>
                <a:latin typeface="Century Gothic"/>
              </a:rPr>
              <a:t>http://answers.mail.ru/question/37655517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a1d"/>
                </a:solidFill>
                <a:uFillTx/>
                <a:latin typeface="Century Gothic"/>
              </a:rPr>
              <a:t>http://www.litra.ru/characters/get/chid/00701321190831417112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a1d"/>
                </a:solidFill>
                <a:uFillTx/>
                <a:latin typeface="Century Gothic"/>
              </a:rPr>
              <a:t>http://otvet.mail.ru/question/2286669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7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340000" y="1523880"/>
            <a:ext cx="634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Century Gothic"/>
              </a:rPr>
              <a:t>Любовь</a:t>
            </a:r>
            <a:r>
              <a:rPr b="0" lang="en-US" sz="1600" spc="-1" strike="noStrike">
                <a:solidFill>
                  <a:srgbClr val="660033"/>
                </a:solidFill>
                <a:latin typeface="Century Gothic"/>
              </a:rPr>
              <a:t> — чувство, свойственное человеку, глубокая, самоотверженная и интимная привязанность к другому человеку или объекту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entury Gothic"/>
              </a:rPr>
              <a:t>Способность к любви у высших животных может проявляться в форме привязанности, сложных взаимоотношений социального типа внутри группы, но в полной мере она спорна и пока не подтвержден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entury Gothic"/>
              </a:rPr>
              <a:t>Любовь — одна из фундаментальных и общих тем в мировой культуре и искусстве. Рассуждения о любви и её анализ как явления восходят к древнейшим философским системам и литературным памятникам, известным человеку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entury Gothic"/>
              </a:rPr>
              <a:t>Любовь рассматривается также как философская категория, в виде субъектного отношения, интимного избирательного чувства, направленного на предмет любви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6" name="Заголовок 2" descr=""/>
          <p:cNvPicPr/>
          <p:nvPr/>
        </p:nvPicPr>
        <p:blipFill>
          <a:blip r:embed="rId2"/>
          <a:stretch/>
        </p:blipFill>
        <p:spPr>
          <a:xfrm>
            <a:off x="633240" y="208080"/>
            <a:ext cx="857736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d3dc"/>
                </a:solidFill>
                <a:latin typeface="Century Gothic"/>
              </a:rPr>
              <a:t>Что лежит в основе повести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d3dc"/>
                </a:solidFill>
                <a:latin typeface="Century Gothic"/>
              </a:rPr>
              <a:t>Что значит любовь для Аси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d3dc"/>
                </a:solidFill>
                <a:latin typeface="Century Gothic"/>
              </a:rPr>
              <a:t>Какова любовь господина Н.Н.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d3dc"/>
                </a:solidFill>
                <a:latin typeface="Century Gothic"/>
              </a:rPr>
              <a:t>Почему, господин Н.Н.боится признаться Асе в своих чувствах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d3dc"/>
                </a:solidFill>
                <a:latin typeface="Century Gothic"/>
              </a:rPr>
              <a:t>Почему герои расстаются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8" name="Заголовок 2" descr=""/>
          <p:cNvPicPr/>
          <p:nvPr/>
        </p:nvPicPr>
        <p:blipFill>
          <a:blip r:embed="rId2"/>
          <a:stretch/>
        </p:blipFill>
        <p:spPr>
          <a:xfrm>
            <a:off x="255600" y="19080"/>
            <a:ext cx="843768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28760" y="13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Gothic"/>
              </a:rPr>
              <a:t>Повесть Ивана Сергеевича Тургенева «Ася» – произведение о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Century Gothic"/>
              </a:rPr>
              <a:t>любви, которая по мнению писателя, «сильнее смерти и страха смерти» и которой «держится и движется жизнь». Тургенев был убеждён, что любовь сопряжена с наивысшим подъёмом чувств. Изображение любви было для него важным творческим приёмом: сразу обнаруживалось, есть ли у героя «натура», то есть богатство духовной жизни, сила характера, или нет её и вместо неё «одна голова». Познакомимся ещё с одной точкой зрения на смысл любовного сюжета в повести, высказанной литературоведом Г. А. Бялым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Gothic"/>
              </a:rPr>
              <a:t>«Любовь представлялась писателю стихийной и бессознательной силой, перед властью которой человек беззащитен. Именно такой предстаёт любовь в повести «Ася»: она проявляется как стихийная сила, овладеть которой, «подчинить её себе и заставить служить своему счастью человек не может…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Заголовок 2" descr=""/>
          <p:cNvPicPr/>
          <p:nvPr/>
        </p:nvPicPr>
        <p:blipFill>
          <a:blip r:embed="rId2"/>
          <a:stretch/>
        </p:blipFill>
        <p:spPr>
          <a:xfrm>
            <a:off x="237960" y="-19080"/>
            <a:ext cx="84553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одержимое 3" descr="оо.jpg"/>
          <p:cNvPicPr/>
          <p:nvPr/>
        </p:nvPicPr>
        <p:blipFill>
          <a:blip r:embed="rId2"/>
          <a:stretch/>
        </p:blipFill>
        <p:spPr>
          <a:xfrm>
            <a:off x="4500720" y="1428840"/>
            <a:ext cx="4071960" cy="471492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3" descr=""/>
          <p:cNvPicPr/>
          <p:nvPr/>
        </p:nvPicPr>
        <p:blipFill>
          <a:blip r:embed="rId3"/>
          <a:stretch/>
        </p:blipFill>
        <p:spPr>
          <a:xfrm>
            <a:off x="208080" y="146160"/>
            <a:ext cx="8485200" cy="12319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[LI8RK_7-03]_[IL_01]-k.jpg"/>
          <p:cNvPicPr/>
          <p:nvPr/>
        </p:nvPicPr>
        <p:blipFill>
          <a:blip r:embed="rId4"/>
          <a:stretch/>
        </p:blipFill>
        <p:spPr>
          <a:xfrm>
            <a:off x="714240" y="1500120"/>
            <a:ext cx="364356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e58b6"/>
                </a:solidFill>
                <a:uFillTx/>
                <a:latin typeface="Century Gothic"/>
                <a:hlinkClick r:id="rId2"/>
              </a:rPr>
              <a:t>..\любовь Аси.</a:t>
            </a:r>
            <a:r>
              <a:rPr b="0" lang="en-US" sz="2600" spc="-1" strike="noStrike" u="sng">
                <a:solidFill>
                  <a:srgbClr val="8e58b6"/>
                </a:solidFill>
                <a:uFillTx/>
                <a:latin typeface="Century Gothic"/>
                <a:hlinkClick r:id="rId3"/>
              </a:rPr>
              <a:t>doc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5" name="Заголовок 2" descr=""/>
          <p:cNvPicPr/>
          <p:nvPr/>
        </p:nvPicPr>
        <p:blipFill>
          <a:blip r:embed="rId4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3" descr="[LI8RK_7-02]_[IL_01]-k.jpg"/>
          <p:cNvPicPr/>
          <p:nvPr/>
        </p:nvPicPr>
        <p:blipFill>
          <a:blip r:embed="rId5"/>
          <a:stretch/>
        </p:blipFill>
        <p:spPr>
          <a:xfrm>
            <a:off x="4643280" y="1428840"/>
            <a:ext cx="35719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6840" y="1285560"/>
            <a:ext cx="39006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0" i="1" lang="en-US" sz="2600" spc="-1" strike="noStrike">
                <a:solidFill>
                  <a:srgbClr val="002060"/>
                </a:solidFill>
                <a:latin typeface="Century Gothic"/>
              </a:rPr>
              <a:t>Любовь для неё превыше всего. Любовь окрыляет героиню, придает ей новые силы, внушает веру в жизнь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6840" y="1523880"/>
            <a:ext cx="4543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e58b6"/>
                </a:solidFill>
                <a:uFillTx/>
                <a:latin typeface="Century Gothic"/>
                <a:hlinkClick r:id="rId2"/>
              </a:rPr>
              <a:t>..\любовь н.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oc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c354d"/>
                </a:solidFill>
                <a:latin typeface="Century Gothic"/>
              </a:rPr>
              <a:t>«Любовь ее меня и радовала и смущала... Неизбежность скорого, почти мгновенного решения терзала меня...»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0" name="Заголовок 2" descr=""/>
          <p:cNvPicPr/>
          <p:nvPr/>
        </p:nvPicPr>
        <p:blipFill>
          <a:blip r:embed="rId3"/>
          <a:stretch/>
        </p:blipFill>
        <p:spPr>
          <a:xfrm>
            <a:off x="255600" y="146160"/>
            <a:ext cx="8437680" cy="12319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3" descr="[LI8RK_7-02]_[IL_02]-k.jpg"/>
          <p:cNvPicPr/>
          <p:nvPr/>
        </p:nvPicPr>
        <p:blipFill>
          <a:blip r:embed="rId4"/>
          <a:stretch/>
        </p:blipFill>
        <p:spPr>
          <a:xfrm>
            <a:off x="5286240" y="1571760"/>
            <a:ext cx="307188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00040" y="264276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a1d"/>
                </a:solidFill>
                <a:latin typeface="Century Gothic"/>
              </a:rPr>
              <a:t>Он приходит к заключению: «Жениться на семнадцатилетней девушке, с ее нравом как это можно!» Верящий в то, что будущее бесконечно он не собирается решать судьбу сейчас. Он отталкивает Асю, которая по его мнению, обогнала естественный ход событий, скорее всего не приведший бы к счастливому концу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3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43:48Z</dcterms:created>
  <dc:creator>владелец</dc:creator>
  <dc:description/>
  <dc:language>en-US</dc:language>
  <cp:lastModifiedBy>студент</cp:lastModifiedBy>
  <dcterms:modified xsi:type="dcterms:W3CDTF">2010-04-28T08:12:27Z</dcterms:modified>
  <cp:revision>17</cp:revision>
  <dc:subject/>
  <dc:title>История любви Аси и господина Н.Н.</dc:title>
</cp:coreProperties>
</file>